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49A-B9DC-4989-A0E4-84D951D9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BF5-5FE2-41A3-959A-3A10AAF1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6F57-9CF1-4477-A1B4-5C1E0636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5D12-7057-4F95-855D-371ACAFA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3BD21-0186-4206-AF7B-106748D5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385F4-19EE-4458-B1D3-16B8DD4C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2279E-4E77-4D47-82F3-31A8D1F9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F27F0-BA4C-4F66-8186-0EC9FDBF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D9419-D68F-4422-A16C-4CE1E301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8E67F-734F-469B-85D7-7049D4F6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27C6C-353A-4D7B-89F3-B43E37BE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B420-047E-47E2-BEF5-C1BC6FAF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C8B9E-5A82-4479-B81A-5E1002EF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56AF7-A45D-4C80-B06F-5AD02FF6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8C3B8-E882-487C-A616-CD97D845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078E9-3083-4618-8E28-8EBA9254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5EFE1-3BA5-42E2-94A8-BF7EA24A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EEF-D985-4C2B-97FA-339E5B45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16B-02E3-4A7C-A612-00F49E0B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F2C-61E1-4449-AE57-9919C220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568-832C-40C3-8FD4-1E62A19C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E397-CA66-4E26-8B21-19448B05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1EB-3AAF-42E3-ABBD-DCDBEA24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94A-C497-49D6-A4B6-0592AE55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0E0F-7C1C-485C-A277-6DF3FB00B1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C487-21CE-4EEE-9EF0-FE4AB9D16E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://www.freeplaymusic.com/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eb.mit.edu/invent/iow/bianconi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762120"/>
            <a:ext cx="8001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ynthetic Dimon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ff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 flipV="1" rot="10800000">
            <a:off x="4417920" y="5785200"/>
            <a:ext cx="337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40160" y="525780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nnon Cl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-15-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4038480" cy="3047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29718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355760" y="3160800"/>
            <a:ext cx="44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ented By: Patricia Bianc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095880"/>
            <a:ext cx="5334120" cy="12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sic: 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Amends In Vain 3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-23-11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www.freeplaymusic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581280" y="4800600"/>
            <a:ext cx="11430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Bianconi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05120" y="56988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ricia invented the recipe to synthetic diamo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47242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hetic Diamond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ept. 19, 2011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eb.mit.edu/invent/iow/bianconi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335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vention: Synthetic Diamo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different people tried to make different ways of making synthetic diamonds by adding carbon to polymer reci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ricia came up with the best recipe, and the smartest way to cook them, she just put them in the ov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, other chemists or scientists tried with recipes and they just turned in to a sto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 since the late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, scientists have been trying new ways to create synthetic diamonds, but Patricia came up with the tric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they are more valuable for industrial 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ventor: Patricia Biancon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ricia earned her B.S. from Ya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ricia also earned her P.H.D. and M.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 was an assistant professor of chemistry at University of Pennsylv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93 she came up with the recipe and baked in the ov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2006 Patricia got an award from Massachusetts Technology Transfer Cen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4:00:33Z</dcterms:created>
  <dc:creator>install</dc:creator>
  <dc:description/>
  <dc:language>en-US</dc:language>
  <cp:lastModifiedBy>install</cp:lastModifiedBy>
  <dcterms:modified xsi:type="dcterms:W3CDTF">2011-09-26T13:57:02Z</dcterms:modified>
  <cp:revision>11</cp:revision>
  <dc:subject/>
  <dc:title>Slide 1</dc:title>
</cp:coreProperties>
</file>